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63C-C7F3-4CEC-91B4-CD1D5F17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B31-A836-4496-A436-AAD28398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6AA-153F-475E-BF52-8AA6334B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C46-461C-44F4-B71C-B566A338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E4F8-C0A0-4B6D-9C41-31807F7A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B95D-9E37-4EAD-BB78-D5CD7784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B12F-7FDC-44A6-A23F-44D70B73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4850-4F57-4A4F-B97E-5910DB33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9F74-8461-45FE-B369-02C9EDA8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A6C9-680C-42F2-9385-E3CCC635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B9B9-42D2-415D-9994-A4CE19A3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36A-5C1C-4F5F-819B-9611CACA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E33E-8F24-47B6-B5D8-233F94DC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5EC3-60ED-438A-9A98-3DB9D6D6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5E58-2839-4F15-90CD-8B2E2239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6AF7-0E89-4E45-8E72-C3CD4F1F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7906-DABD-4074-9651-C212F6BD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979-D7CF-4E4A-8095-F970604A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B91-ACAB-4A94-8A47-FA28BD7A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831-FB7D-4EC7-8F5C-2D53AF7B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C73-5212-4E87-A61B-0D6D29B9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4E5-A28D-407F-A483-DDD83CDF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B3E-8286-493B-8461-FAA36003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068-29F7-4D96-B914-02DB46A6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341B-6555-4FE5-9F81-8951B2FEFA2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C955-F4E9-401E-89B4-58613801C92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inance in Educ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5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tential New Tax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te-Value Tax – a tax on the actual value of the 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lue-Added Tax – a tax on the value of good at each transaction level from production to consum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tte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as great a revenue source as publicity would sugg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regressive in nature, since most buyers of tickets are among the members of society who can least afford th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ebate continues as to whether the lottery is really a ta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Taxation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good tax system should include the following featur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re should be coordination among al levels of government with little or no duplication of tax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 citizens should pa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xpayers should be left in the same relative financial position with each other after taxes are pai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ax should be bring a reasonable yield, not b merely a nuisance ta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Taxation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good taxation system should include the following featur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x erosion should be minimal, regardless of the benefits government owes to deserving citize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x collection should be simple and convenient for tax payers and of little cost to the collecto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ax should be levied on the person or household who pays it-shifting of the tax should be minimiz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ayment of the tax should not cause a major change in the economic practice or vocation of the taxpay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ng Tax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racteristics for evaluating a tax syste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fficiency – best when operated with the least economic and social costs and the highest order of services for the money sp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quity – structure should provide the highest degree of fairness in the treatment of the individu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equacy – the system ought to provide enough funds to support the level of public service  that is adopted for the agency in ques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aptability – system should be adaptable to changing economic conditions, social demands for education, and significant changes in edu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fairness of the Property Ta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ident in many w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equal assessment practi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xation without relationship to ownership of the property being tax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equal tax bases per pupil to be educated in various distric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ck of a direct relationship between taxes owed and the amount of wealth or income of the person or household being tax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xpayer resistance of property tax has increased greatly over the yea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rcuit Break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pted by states to relieve elderly and low-income people of part of their property tax bur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gned to assure that the property taxes of people with low incomes will not exceed a stated portion or percent of their annual income, regardless of the value of their property or the tax in effect in their taxing un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rsonal Property Tax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nal property taxes such as stocks, bonds, mutual funds, and savings accounts are difficult to coll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use has proven to be somewhat  ineffec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come Ta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come tax is probably the fairest of all tax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usually a progressive tax and should include personal and corporate inco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les Ta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les taxes are effective at the state level but are not readily manageable at the local level, especially in small distric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les taxes are regressive when food items and other necessities are taxed, since low-income families generally spend a higher percentage of their income on necessities that he more affluent 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6:20:47Z</dcterms:created>
  <dc:creator>Cynthia Altemueller</dc:creator>
  <dc:description/>
  <dc:language>en-US</dc:language>
  <cp:lastModifiedBy>AEURY</cp:lastModifiedBy>
  <dcterms:modified xsi:type="dcterms:W3CDTF">2006-01-27T22:12:28Z</dcterms:modified>
  <cp:revision>3</cp:revision>
  <dc:subject/>
  <dc:title>Finance in Education</dc:title>
</cp:coreProperties>
</file>